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BAE-397F-417F-AC35-77C01E44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62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62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FAF0-FDDD-4293-ADE6-ED574CA9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62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8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62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8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4F9-1149-4330-BEB7-DC43FFE1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6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4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31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6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4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31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A9A-D84F-4773-8466-28E0B4FF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6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68E-B495-4755-8D36-55A1C9BE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6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02F-625C-43B2-84B7-C036AB9A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62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8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61A3-E151-42B0-B653-ADD26A53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0D2A-012F-409D-9FE5-7FD29E12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29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65D2-E8E6-4DC6-83F4-CAB987C9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62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8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62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85F-01FA-4CBD-B4E5-BC348599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62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8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8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AC9F-9183-4908-AE96-37BABE13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62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8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62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FCA-E1FB-4F41-A376-BF244078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6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7F30-BA73-4630-B535-E415875C0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fetac.ie/qa/qa2.htm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523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1125360"/>
            <a:ext cx="684216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illSans"/>
                <a:ea typeface="Arial"/>
              </a:rPr>
              <a:t>Provider Self Evaluation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GillSans"/>
                <a:ea typeface="Arial"/>
              </a:rPr>
              <a:t> of 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GillSans"/>
                <a:ea typeface="Arial"/>
              </a:rPr>
              <a:t>Programmes and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Sans"/>
                <a:ea typeface="Arial"/>
              </a:rPr>
              <a:t>Walter Bal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  <a:ea typeface="Arial"/>
              </a:rPr>
              <a:t>Development Officer – FET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  <a:ea typeface="Arial"/>
              </a:rPr>
              <a:t>4 October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rogramme Evaluation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6200" y="765000"/>
            <a:ext cx="79408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 Unicode MS"/>
              </a:rPr>
              <a:t>Facilitates ‘publication of findings’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 Unicode MS"/>
              </a:rPr>
              <a:t>Carries forward ratings of Quality Assurance effectiveness from S.E.C.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 Unicode MS"/>
              </a:rPr>
              <a:t>Focuses in more on programme specific issues – additional questions / prompts on 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ogramme Statistics – Outcomes /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ogramme Design &amp;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ogramm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ociated Services and Resourc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rogramme Evaluation Report cont’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6200" y="765000"/>
            <a:ext cx="77961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Facilitates involvement of </a:t>
            </a:r>
            <a:r>
              <a:rPr b="0" lang="en-IE" sz="2800" spc="-1" strike="noStrike">
                <a:solidFill>
                  <a:srgbClr val="ff3300"/>
                </a:solidFill>
                <a:latin typeface="Arial Unicode MS"/>
              </a:rPr>
              <a:t>External Evaluato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Identifies </a:t>
            </a:r>
            <a:r>
              <a:rPr b="0" lang="en-IE" sz="2800" spc="-1" strike="noStrike">
                <a:solidFill>
                  <a:srgbClr val="ff3300"/>
                </a:solidFill>
                <a:latin typeface="Arial Unicode MS"/>
              </a:rPr>
              <a:t>Strengths</a:t>
            </a: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 and </a:t>
            </a:r>
            <a:r>
              <a:rPr b="0" lang="en-IE" sz="2800" spc="-1" strike="noStrike">
                <a:solidFill>
                  <a:srgbClr val="ff3300"/>
                </a:solidFill>
                <a:latin typeface="Arial Unicode MS"/>
              </a:rPr>
              <a:t>Areas for Improvemen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Can and should be </a:t>
            </a:r>
            <a:r>
              <a:rPr b="0" lang="en-IE" sz="2800" spc="-1" strike="noStrike">
                <a:solidFill>
                  <a:srgbClr val="ff3300"/>
                </a:solidFill>
                <a:latin typeface="Arial Unicode MS"/>
              </a:rPr>
              <a:t>customised</a:t>
            </a: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 to make more locally relevan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For ‘</a:t>
            </a:r>
            <a:r>
              <a:rPr b="0" lang="en-IE" sz="2800" spc="-1" strike="noStrike">
                <a:solidFill>
                  <a:srgbClr val="ff3300"/>
                </a:solidFill>
                <a:latin typeface="Arial Unicode MS"/>
              </a:rPr>
              <a:t>local</a:t>
            </a: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’ consumption primarily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3300"/>
                </a:solidFill>
                <a:latin typeface="Arial Unicode MS"/>
              </a:rPr>
              <a:t>FETAC</a:t>
            </a: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 being ‘copied’ with the finding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If not useful for provider and learners then no use to FETAC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Could / should be </a:t>
            </a:r>
            <a:r>
              <a:rPr b="0" lang="en-IE" sz="2800" spc="-1" strike="noStrike">
                <a:solidFill>
                  <a:srgbClr val="ff3300"/>
                </a:solidFill>
                <a:latin typeface="Arial Unicode MS"/>
              </a:rPr>
              <a:t>published on Web</a:t>
            </a: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rogramme Improvement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75840" y="765000"/>
            <a:ext cx="7651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 Unicode MS"/>
              </a:rPr>
              <a:t>To be compiled </a:t>
            </a:r>
            <a:r>
              <a:rPr b="0" i="1" lang="en-IE" sz="3000" spc="-1" strike="noStrike">
                <a:solidFill>
                  <a:srgbClr val="000000"/>
                </a:solidFill>
                <a:latin typeface="Arial Unicode MS"/>
              </a:rPr>
              <a:t>after</a:t>
            </a:r>
            <a:r>
              <a:rPr b="0" lang="en-IE" sz="3000" spc="-1" strike="noStrike">
                <a:solidFill>
                  <a:srgbClr val="000000"/>
                </a:solidFill>
                <a:latin typeface="Arial Unicode MS"/>
              </a:rPr>
              <a:t> completion of Evaluation Report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 Unicode MS"/>
              </a:rPr>
              <a:t>To be accepted and signed by management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 Unicode MS"/>
              </a:rPr>
              <a:t>Clear focus on improvement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 Unicode MS"/>
              </a:rPr>
              <a:t>Will be the main focus of monitoring by FETAC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 Unicode MS"/>
              </a:rPr>
              <a:t>With the Evaluation Report, should be the basis of the next evaluation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elf Evaluations to 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7521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Varied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Programme vs Quality Assurance focu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cale / Structure of pro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ime /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ack of har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ternal evaluator – being asked to ‘do’ eval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o’ is it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7564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Contributors to Successful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7448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Unicode MS"/>
              </a:rPr>
              <a:t>Management commitment – time and resource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Unicode MS"/>
              </a:rPr>
              <a:t>Achievable Goals – ‘learn to walk before ….’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Unicode MS"/>
              </a:rPr>
              <a:t>A framework to operate withi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ordination and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larity and agreed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utonomy and self relianc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Unicode MS"/>
              </a:rPr>
              <a:t>Improvement Focu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Unicode MS"/>
              </a:rPr>
              <a:t>Confidence and mutual respec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Unicode MS"/>
              </a:rPr>
              <a:t>Consistenc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Unicode MS"/>
              </a:rPr>
              <a:t>Follow throug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76200" y="3212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 Unicode MS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8523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Cont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125360"/>
            <a:ext cx="727236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an overview of FETAC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an outline of process stages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introduction to tools and tem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description of approaches already taken by provi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Q &amp;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Qualifications (Education &amp; Training) Act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62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 Unicode MS"/>
              </a:rPr>
              <a:t>Programme</a:t>
            </a: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 Focu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 Unicode MS"/>
              </a:rPr>
              <a:t>Services</a:t>
            </a: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 related to programme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 Unicode MS"/>
              </a:rPr>
              <a:t>Internal</a:t>
            </a: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 Component – Management, Staff and Learner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 Unicode MS"/>
              </a:rPr>
              <a:t>External</a:t>
            </a: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 Component – ‘</a:t>
            </a:r>
            <a:r>
              <a:rPr b="0" i="1" lang="en-IE" sz="3200" spc="-1" strike="noStrike">
                <a:solidFill>
                  <a:srgbClr val="000000"/>
                </a:solidFill>
                <a:latin typeface="Arial Unicode MS"/>
              </a:rPr>
              <a:t>person competent to make national and international comparisons</a:t>
            </a: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 Unicode MS"/>
              </a:rPr>
              <a:t>Publication</a:t>
            </a: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 of finding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FETAC to </a:t>
            </a:r>
            <a:r>
              <a:rPr b="1" lang="en-IE" sz="3200" spc="-1" strike="noStrike">
                <a:solidFill>
                  <a:srgbClr val="000000"/>
                </a:solidFill>
                <a:latin typeface="Arial Unicode MS"/>
              </a:rPr>
              <a:t>consider</a:t>
            </a: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 findings / make recommendat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ETAC Policy of Provider’s Q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28036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Improvem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focu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stitutional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programmatic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itial goal: enable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providers to establish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line clarity on goals, methods and quality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to monitor provisio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 to self evaluate programme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uropean model – ERFQ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Referenc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68360" y="692280"/>
            <a:ext cx="7632000" cy="5255280"/>
            <a:chOff x="468360" y="692280"/>
            <a:chExt cx="7632000" cy="5255280"/>
          </a:xfrm>
        </p:grpSpPr>
        <p:grpSp>
          <p:nvGrpSpPr>
            <p:cNvPr id="54" name=""/>
            <p:cNvGrpSpPr/>
            <p:nvPr/>
          </p:nvGrpSpPr>
          <p:grpSpPr>
            <a:xfrm>
              <a:off x="3167280" y="692280"/>
              <a:ext cx="1926360" cy="1664280"/>
              <a:chOff x="3167280" y="692280"/>
              <a:chExt cx="1926360" cy="1664280"/>
            </a:xfrm>
          </p:grpSpPr>
          <p:sp>
            <p:nvSpPr>
              <p:cNvPr id="55" name=""/>
              <p:cNvSpPr/>
              <p:nvPr/>
            </p:nvSpPr>
            <p:spPr>
              <a:xfrm>
                <a:off x="3167280" y="692280"/>
                <a:ext cx="1926360" cy="1664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321720" y="1128240"/>
                <a:ext cx="1695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Purpose &amp; Pl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6173640" y="2356920"/>
              <a:ext cx="1926720" cy="16646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28440" y="2969280"/>
              <a:ext cx="169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mp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321720" y="4282560"/>
              <a:ext cx="1927080" cy="1665000"/>
              <a:chOff x="3321720" y="4282560"/>
              <a:chExt cx="1927080" cy="1665000"/>
            </a:xfrm>
          </p:grpSpPr>
          <p:sp>
            <p:nvSpPr>
              <p:cNvPr id="60" name=""/>
              <p:cNvSpPr/>
              <p:nvPr/>
            </p:nvSpPr>
            <p:spPr>
              <a:xfrm>
                <a:off x="3321720" y="4282560"/>
                <a:ext cx="1927080" cy="16650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74720" y="4632120"/>
                <a:ext cx="169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Assessment &amp; Evalu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468360" y="2443680"/>
              <a:ext cx="2003040" cy="1664280"/>
              <a:chOff x="468360" y="2443680"/>
              <a:chExt cx="2003040" cy="1664280"/>
            </a:xfrm>
          </p:grpSpPr>
          <p:sp>
            <p:nvSpPr>
              <p:cNvPr id="63" name=""/>
              <p:cNvSpPr/>
              <p:nvPr/>
            </p:nvSpPr>
            <p:spPr>
              <a:xfrm>
                <a:off x="468360" y="2443680"/>
                <a:ext cx="2003040" cy="1664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68360" y="2792880"/>
                <a:ext cx="192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Feedback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 &amp;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Improv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3090600" y="2443680"/>
              <a:ext cx="2313000" cy="175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21720" y="2706480"/>
              <a:ext cx="19224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Method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= Self Assess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49160" y="1391040"/>
              <a:ext cx="1310400" cy="1226160"/>
            </a:xfrm>
            <a:custGeom>
              <a:avLst/>
              <a:gdLst>
                <a:gd name="textAreaLeft" fmla="*/ 0 w 1310400"/>
                <a:gd name="textAreaRight" fmla="*/ 1310760 w 1310400"/>
                <a:gd name="textAreaTop" fmla="*/ 0 h 1226160"/>
                <a:gd name="textAreaBottom" fmla="*/ 1226520 h 122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093152"/>
                  <a:lnTo>
                    <a:pt x="3178" y="3148"/>
                  </a:lnTo>
                  <a:arcTo wR="10800" hR="10800" stAng="-8093152" swAng="8093152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11400" y="3933000"/>
              <a:ext cx="1310400" cy="1226160"/>
            </a:xfrm>
            <a:custGeom>
              <a:avLst/>
              <a:gdLst>
                <a:gd name="textAreaLeft" fmla="*/ 0 w 1310400"/>
                <a:gd name="textAreaRight" fmla="*/ 1310760 w 1310400"/>
                <a:gd name="textAreaTop" fmla="*/ 0 h 1226160"/>
                <a:gd name="textAreaBottom" fmla="*/ 1226520 h 122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4" y="4558"/>
                  </a:moveTo>
                  <a:arcTo wR="-7320" hR="-7320" stAng="-3510442" swAng="-8916261"/>
                  <a:lnTo>
                    <a:pt x="20413" y="5878"/>
                  </a:lnTo>
                  <a:arcTo wR="10800" hR="10800" stAng="-1626703" swAng="8916261"/>
                  <a:lnTo>
                    <a:pt x="3748" y="22312"/>
                  </a:lnTo>
                  <a:lnTo>
                    <a:pt x="2281" y="16206"/>
                  </a:lnTo>
                  <a:lnTo>
                    <a:pt x="8387" y="1474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80200" y="3933000"/>
              <a:ext cx="1310400" cy="1226160"/>
            </a:xfrm>
            <a:custGeom>
              <a:avLst/>
              <a:gdLst>
                <a:gd name="textAreaLeft" fmla="*/ 0 w 1310400"/>
                <a:gd name="textAreaRight" fmla="*/ 1310760 w 1310400"/>
                <a:gd name="textAreaTop" fmla="*/ 0 h 1226160"/>
                <a:gd name="textAreaBottom" fmla="*/ 1226520 h 122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16" y="13572"/>
                  </a:moveTo>
                  <a:arcTo wR="-6263" hR="-6263" stAng="1575985" swAng="-10220676"/>
                  <a:lnTo>
                    <a:pt x="19546" y="17136"/>
                  </a:lnTo>
                  <a:arcTo wR="10800" hR="10800" stAng="2155309" swAng="10220676"/>
                  <a:lnTo>
                    <a:pt x="-1306" y="4826"/>
                  </a:lnTo>
                  <a:lnTo>
                    <a:pt x="5348" y="2569"/>
                  </a:lnTo>
                  <a:lnTo>
                    <a:pt x="7605" y="9223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80200" y="1391040"/>
              <a:ext cx="1232280" cy="1226160"/>
            </a:xfrm>
            <a:custGeom>
              <a:avLst/>
              <a:gdLst>
                <a:gd name="textAreaLeft" fmla="*/ 0 w 1232280"/>
                <a:gd name="textAreaRight" fmla="*/ 1232640 w 1232280"/>
                <a:gd name="textAreaTop" fmla="*/ 0 h 1226160"/>
                <a:gd name="textAreaBottom" fmla="*/ 1226520 h 122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4" y="16973"/>
                  </a:moveTo>
                  <a:arcTo wR="-6736" hR="-6736" stAng="6815366" swAng="-8477240"/>
                  <a:lnTo>
                    <a:pt x="1238" y="15820"/>
                  </a:lnTo>
                  <a:arcTo wR="10800" hR="10800" stAng="9138126" swAng="8477240"/>
                  <a:lnTo>
                    <a:pt x="16202" y="-1572"/>
                  </a:lnTo>
                  <a:lnTo>
                    <a:pt x="18645" y="4658"/>
                  </a:lnTo>
                  <a:lnTo>
                    <a:pt x="12415" y="7101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3272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elf Evaluation Procedure -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62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Providers to clarify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sponsibility – who? (</a:t>
            </a:r>
            <a:r>
              <a:rPr b="0" lang="en-IE" sz="2800" spc="-1" strike="noStrike">
                <a:solidFill>
                  <a:srgbClr val="ff3300"/>
                </a:solidFill>
                <a:latin typeface="Arial"/>
              </a:rPr>
              <a:t>role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requency of evaluation (</a:t>
            </a:r>
            <a:r>
              <a:rPr b="0" lang="en-IE" sz="2800" spc="-1" strike="noStrike">
                <a:solidFill>
                  <a:srgbClr val="ff3300"/>
                </a:solidFill>
                <a:latin typeface="Arial"/>
              </a:rPr>
              <a:t>how often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ge of programmes (&amp; centres) encompassed (</a:t>
            </a:r>
            <a:r>
              <a:rPr b="0" lang="en-IE" sz="2800" spc="-1" strike="noStrike">
                <a:solidFill>
                  <a:srgbClr val="ff3300"/>
                </a:solidFill>
                <a:latin typeface="Arial"/>
              </a:rPr>
              <a:t>which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earner input (</a:t>
            </a:r>
            <a:r>
              <a:rPr b="0" lang="en-IE" sz="2800" spc="-1" strike="noStrike">
                <a:solidFill>
                  <a:srgbClr val="ff3300"/>
                </a:solidFill>
                <a:latin typeface="Arial"/>
              </a:rPr>
              <a:t>how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ternal evaluator profile (</a:t>
            </a:r>
            <a:r>
              <a:rPr b="0" lang="en-IE" sz="2800" spc="-1" strike="noStrike">
                <a:solidFill>
                  <a:srgbClr val="ff3300"/>
                </a:solidFill>
                <a:latin typeface="Arial"/>
              </a:rPr>
              <a:t>who / rol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ethodology – (</a:t>
            </a:r>
            <a:r>
              <a:rPr b="0" lang="en-IE" sz="2800" spc="-1" strike="noStrike">
                <a:solidFill>
                  <a:srgbClr val="ff3300"/>
                </a:solidFill>
                <a:latin typeface="Arial"/>
              </a:rPr>
              <a:t>sequence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ovider Procedures -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72914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Provider Composition –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3300"/>
                </a:solidFill>
                <a:latin typeface="Arial"/>
              </a:rPr>
              <a:t>big, small, single / multi centre, public / private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Number of programmes &amp; centres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3300"/>
                </a:solidFill>
                <a:latin typeface="Arial"/>
              </a:rPr>
              <a:t>how to group, collate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External Evaluator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3300"/>
                </a:solidFill>
                <a:latin typeface="Arial"/>
              </a:rPr>
              <a:t>Who, where, who pays, how to involve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3300"/>
                </a:solidFill>
                <a:latin typeface="Arial"/>
              </a:rPr>
              <a:t>Bringing it all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Repor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3300"/>
                </a:solidFill>
                <a:latin typeface="Arial"/>
              </a:rPr>
              <a:t>For who, what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Tools &amp; Templ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759312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tended to help provider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Not mandatory where equivalent  / alternative already exist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esigned to work as a packag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hlinkClick r:id="rId2"/>
              </a:rPr>
              <a:t>www.fetac.ie/qa/qa2.htm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elf Evaluation Check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6200" y="836280"/>
            <a:ext cx="77248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Follows Quality Assurance mod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To be applied within context of one or more </a:t>
            </a:r>
            <a:r>
              <a:rPr b="0" i="1" lang="en-IE" sz="2800" spc="-1" strike="noStrike">
                <a:solidFill>
                  <a:srgbClr val="000000"/>
                </a:solidFill>
                <a:latin typeface="Arial Unicode MS"/>
              </a:rPr>
              <a:t>programmes and related servic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Attempts to translates Quality Assurance guidelines into meaningful questions about programme qualit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Questions can be edited / customised to make more locally relevan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To assist provider evaluate effectiveness of own quality assurance procedures as applied to a programme or programm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Designed for internal use primarily – staff and learne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10:02:31Z</dcterms:created>
  <dc:creator>wbalfe</dc:creator>
  <dc:description/>
  <dc:language>en-US</dc:language>
  <cp:lastModifiedBy>FETAC_SUPPORT_SERVICE</cp:lastModifiedBy>
  <dcterms:modified xsi:type="dcterms:W3CDTF">2007-10-11T11:38:59Z</dcterms:modified>
  <cp:revision>132</cp:revision>
  <dc:subject/>
  <dc:title>Slide 1</dc:title>
</cp:coreProperties>
</file>