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45A-8ECB-4A04-B619-EC49CD0E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6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8D0-D082-40BA-9792-964B737C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8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DAA-6704-4E19-B5A9-A0538DD2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4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1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6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4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1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A39-EDEC-4119-AF96-C378E0E1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6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8AF-A06B-4FB9-A77B-96185D04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D9B-665B-42FE-9C23-7B5A022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091-6AB9-42EC-B380-C480A534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9A6-6174-42F4-968D-86735B4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957-04B0-4662-831D-F3A3ECE4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660-64D6-4F01-9E9F-14D1039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8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B98-91E7-4B9A-87B4-92CF3CB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8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7B2-DDED-4372-A8CA-5F3DA257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6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5662-FC57-4E7B-A6B8-5596B46A9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tac.ie/qa/qa2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523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125360"/>
            <a:ext cx="6842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Sans"/>
                <a:ea typeface="Arial"/>
              </a:rPr>
              <a:t>Provider Self Evalu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Sans"/>
                <a:ea typeface="Arial"/>
              </a:rPr>
              <a:t> of 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Sans"/>
                <a:ea typeface="Arial"/>
              </a:rPr>
              <a:t>Programmes an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Sans"/>
                <a:ea typeface="Arial"/>
              </a:rPr>
              <a:t>Walter Bal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  <a:ea typeface="Arial"/>
              </a:rPr>
              <a:t>Development Officer – FET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  <a:ea typeface="Arial"/>
              </a:rPr>
              <a:t>4 Octo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gramme Evaluation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6200" y="765000"/>
            <a:ext cx="7940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Facilitates ‘publication of findings’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Carries forward ratings of Quality Assurance effectiveness from S.E.C.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Focuses in more on programme specific issues – additional questions / prompts on 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gramme Statistics – Outcomes /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gramme Design &amp;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gramm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ed Services and Resou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gramme Evaluation Report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6200" y="765000"/>
            <a:ext cx="7796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Facilitates involvement of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External Evaluat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Identifies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Strengths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Areas for Improv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Can and should be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customised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 to make more locally releva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For ‘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local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’ consumption primari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FETAC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 being ‘copied’ with the finding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If not useful for provider and learners then no use to FETAC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Could / should be </a:t>
            </a:r>
            <a:r>
              <a:rPr b="0" lang="en-IE" sz="2800" spc="-1" strike="noStrike">
                <a:solidFill>
                  <a:srgbClr val="ff3300"/>
                </a:solidFill>
                <a:latin typeface="Arial Unicode MS"/>
              </a:rPr>
              <a:t>published on Web</a:t>
            </a: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gramme Improve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5840" y="765000"/>
            <a:ext cx="765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To be compiled </a:t>
            </a:r>
            <a:r>
              <a:rPr b="0" i="1" lang="en-IE" sz="3000" spc="-1" strike="noStrike">
                <a:solidFill>
                  <a:srgbClr val="000000"/>
                </a:solidFill>
                <a:latin typeface="Arial Unicode MS"/>
              </a:rPr>
              <a:t>after</a:t>
            </a: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 completion of Evaluation Repor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To be accepted and signed by managemen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Clear focus on improvemen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Will be the main focus of monitoring by FETAC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 Unicode MS"/>
              </a:rPr>
              <a:t>With the Evaluation Report, should be the basis of the next evaluation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lf Evaluations to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7521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Varie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Programme vs Quality Assurance focu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cale / Structure of pro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ime /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ck of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ternal evaluator – being asked to ‘do’ 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o’ is i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ontributors to Successful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448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Management commitment – time and resourc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Achievable Goals – ‘learn to walk before ….’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A framework to operate withi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ordination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larity and agree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utonomy and self relia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Improvement Focu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Confidence and mutual respe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Unicode MS"/>
              </a:rPr>
              <a:t>Follow throug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6200" y="3212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 Unicode MS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523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Cont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125360"/>
            <a:ext cx="72723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an overview of FETA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an outline of process stages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introduction to tools and 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description of approaches already taken by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Qualifications (Education &amp; Training) Act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62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Programme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Services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related to programme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Internal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Component – Management, Staff and Learn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External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Component – ‘</a:t>
            </a:r>
            <a:r>
              <a:rPr b="0" i="1" lang="en-IE" sz="3200" spc="-1" strike="noStrike">
                <a:solidFill>
                  <a:srgbClr val="000000"/>
                </a:solidFill>
                <a:latin typeface="Arial Unicode MS"/>
              </a:rPr>
              <a:t>person competent to make national and international comparisons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Publication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of finding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FETAC to </a:t>
            </a:r>
            <a:r>
              <a:rPr b="1" lang="en-IE" sz="3200" spc="-1" strike="noStrike">
                <a:solidFill>
                  <a:srgbClr val="000000"/>
                </a:solidFill>
                <a:latin typeface="Arial Unicode MS"/>
              </a:rPr>
              <a:t>consider</a:t>
            </a: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 findings / make recommenda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ETAC Policy of Provider’s Q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280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Improvem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stitutional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programmatic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itial goal: enable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roviders to establish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line clarity on goals, methods and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o monitor provisi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to self evaluate programme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uropean model – ERFQ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Referenc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8360" y="692280"/>
            <a:ext cx="7632000" cy="5255280"/>
            <a:chOff x="468360" y="692280"/>
            <a:chExt cx="7632000" cy="5255280"/>
          </a:xfrm>
        </p:grpSpPr>
        <p:grpSp>
          <p:nvGrpSpPr>
            <p:cNvPr id="54" name=""/>
            <p:cNvGrpSpPr/>
            <p:nvPr/>
          </p:nvGrpSpPr>
          <p:grpSpPr>
            <a:xfrm>
              <a:off x="3167280" y="692280"/>
              <a:ext cx="1926360" cy="1664280"/>
              <a:chOff x="3167280" y="692280"/>
              <a:chExt cx="1926360" cy="1664280"/>
            </a:xfrm>
          </p:grpSpPr>
          <p:sp>
            <p:nvSpPr>
              <p:cNvPr id="55" name=""/>
              <p:cNvSpPr/>
              <p:nvPr/>
            </p:nvSpPr>
            <p:spPr>
              <a:xfrm>
                <a:off x="3167280" y="692280"/>
                <a:ext cx="1926360" cy="1664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321720" y="1128240"/>
                <a:ext cx="1695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Purpose &amp; Pl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6173640" y="2356920"/>
              <a:ext cx="1926720" cy="1664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28440" y="2969280"/>
              <a:ext cx="169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mp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321720" y="4282560"/>
              <a:ext cx="1927080" cy="1665000"/>
              <a:chOff x="3321720" y="4282560"/>
              <a:chExt cx="1927080" cy="1665000"/>
            </a:xfrm>
          </p:grpSpPr>
          <p:sp>
            <p:nvSpPr>
              <p:cNvPr id="60" name=""/>
              <p:cNvSpPr/>
              <p:nvPr/>
            </p:nvSpPr>
            <p:spPr>
              <a:xfrm>
                <a:off x="3321720" y="4282560"/>
                <a:ext cx="1927080" cy="16650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74720" y="4632120"/>
                <a:ext cx="169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Assessment &amp; Evalu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68360" y="2443680"/>
              <a:ext cx="2003040" cy="1664280"/>
              <a:chOff x="468360" y="2443680"/>
              <a:chExt cx="2003040" cy="1664280"/>
            </a:xfrm>
          </p:grpSpPr>
          <p:sp>
            <p:nvSpPr>
              <p:cNvPr id="63" name=""/>
              <p:cNvSpPr/>
              <p:nvPr/>
            </p:nvSpPr>
            <p:spPr>
              <a:xfrm>
                <a:off x="468360" y="2443680"/>
                <a:ext cx="2003040" cy="1664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8360" y="2792880"/>
                <a:ext cx="192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Feedback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&amp;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Improv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090600" y="2443680"/>
              <a:ext cx="2313000" cy="175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21720" y="2706480"/>
              <a:ext cx="19224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ethod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= Self Assess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49160" y="1391040"/>
              <a:ext cx="1310400" cy="1226160"/>
            </a:xfrm>
            <a:custGeom>
              <a:avLst/>
              <a:gdLst>
                <a:gd name="textAreaLeft" fmla="*/ 0 w 1310400"/>
                <a:gd name="textAreaRight" fmla="*/ 1310760 w 1310400"/>
                <a:gd name="textAreaTop" fmla="*/ 0 h 1226160"/>
                <a:gd name="textAreaBottom" fmla="*/ 1226520 h 12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093152"/>
                  <a:lnTo>
                    <a:pt x="3178" y="3148"/>
                  </a:lnTo>
                  <a:arcTo wR="10800" hR="10800" stAng="-8093152" swAng="809315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11400" y="3933000"/>
              <a:ext cx="1310400" cy="1226160"/>
            </a:xfrm>
            <a:custGeom>
              <a:avLst/>
              <a:gdLst>
                <a:gd name="textAreaLeft" fmla="*/ 0 w 1310400"/>
                <a:gd name="textAreaRight" fmla="*/ 1310760 w 1310400"/>
                <a:gd name="textAreaTop" fmla="*/ 0 h 1226160"/>
                <a:gd name="textAreaBottom" fmla="*/ 1226520 h 12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24" y="4558"/>
                  </a:moveTo>
                  <a:arcTo wR="-7320" hR="-7320" stAng="-3510442" swAng="-8916261"/>
                  <a:lnTo>
                    <a:pt x="20413" y="5878"/>
                  </a:lnTo>
                  <a:arcTo wR="10800" hR="10800" stAng="-1626703" swAng="8916261"/>
                  <a:lnTo>
                    <a:pt x="3748" y="22312"/>
                  </a:lnTo>
                  <a:lnTo>
                    <a:pt x="2281" y="16206"/>
                  </a:lnTo>
                  <a:lnTo>
                    <a:pt x="8387" y="1474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80200" y="3933000"/>
              <a:ext cx="1310400" cy="1226160"/>
            </a:xfrm>
            <a:custGeom>
              <a:avLst/>
              <a:gdLst>
                <a:gd name="textAreaLeft" fmla="*/ 0 w 1310400"/>
                <a:gd name="textAreaRight" fmla="*/ 1310760 w 1310400"/>
                <a:gd name="textAreaTop" fmla="*/ 0 h 1226160"/>
                <a:gd name="textAreaBottom" fmla="*/ 1226520 h 12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16" y="13572"/>
                  </a:moveTo>
                  <a:arcTo wR="-6263" hR="-6263" stAng="1575985" swAng="-10220676"/>
                  <a:lnTo>
                    <a:pt x="19546" y="17136"/>
                  </a:lnTo>
                  <a:arcTo wR="10800" hR="10800" stAng="2155309" swAng="10220676"/>
                  <a:lnTo>
                    <a:pt x="-1306" y="4826"/>
                  </a:lnTo>
                  <a:lnTo>
                    <a:pt x="5348" y="2569"/>
                  </a:lnTo>
                  <a:lnTo>
                    <a:pt x="7605" y="922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80200" y="1391040"/>
              <a:ext cx="1232280" cy="122616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1226160"/>
                <a:gd name="textAreaBottom" fmla="*/ 1226520 h 12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4" y="16973"/>
                  </a:moveTo>
                  <a:arcTo wR="-6736" hR="-6736" stAng="6815366" swAng="-8477240"/>
                  <a:lnTo>
                    <a:pt x="1238" y="15820"/>
                  </a:lnTo>
                  <a:arcTo wR="10800" hR="10800" stAng="9138126" swAng="8477240"/>
                  <a:lnTo>
                    <a:pt x="16202" y="-1572"/>
                  </a:lnTo>
                  <a:lnTo>
                    <a:pt x="18645" y="4658"/>
                  </a:lnTo>
                  <a:lnTo>
                    <a:pt x="12415" y="7101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327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lf Evaluation Procedure -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62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 Unicode MS"/>
              </a:rPr>
              <a:t>Providers to clarify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ponsibility – who?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rol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requency of evaluation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how ofte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ge of programmes (&amp; centres) encompassed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which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arner input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how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ternal evaluator profile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who / rol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thodology – (</a:t>
            </a:r>
            <a:r>
              <a:rPr b="0" lang="en-IE" sz="2800" spc="-1" strike="noStrike">
                <a:solidFill>
                  <a:srgbClr val="ff3300"/>
                </a:solidFill>
                <a:latin typeface="Arial"/>
              </a:rPr>
              <a:t>sequenc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ovider Procedures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7291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Provider Composition –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big, small, single / multi centre, public / private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Number of programmes &amp; centre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how to group, collate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External Evaluator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Who, where, who pays, how to involv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Bringing it all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3300"/>
                </a:solidFill>
                <a:latin typeface="Arial"/>
              </a:rPr>
              <a:t>For who, wha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Tools &amp; Templ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75931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tended to help provid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ot mandatory where equivalent  / alternative already exis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signed to work as a packa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Unicode MS"/>
                <a:hlinkClick r:id="rId2"/>
              </a:rPr>
              <a:t>www.fetac.ie/qa/qa2.ht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lf Evaluation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6200" y="836280"/>
            <a:ext cx="77248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Follows Quality Assurance mod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To be applied within context of one or more </a:t>
            </a:r>
            <a:r>
              <a:rPr b="0" i="1" lang="en-IE" sz="2800" spc="-1" strike="noStrike">
                <a:solidFill>
                  <a:srgbClr val="000000"/>
                </a:solidFill>
                <a:latin typeface="Arial Unicode MS"/>
              </a:rPr>
              <a:t>programmes and related servi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Attempts to translates Quality Assurance guidelines into meaningful questions about programme qualit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Questions can be edited / customised to make more locally releva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To assist provider evaluate effectiveness of own quality assurance procedures as applied to a programme or programm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 Unicode MS"/>
              </a:rPr>
              <a:t>Designed for internal use primarily – staff and learn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. Walter Balfe, Development Officer, FE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0:02:31Z</dcterms:created>
  <dc:creator>wbalfe</dc:creator>
  <dc:description/>
  <dc:language>en-US</dc:language>
  <cp:lastModifiedBy>FETAC_SUPPORT_SERVICE</cp:lastModifiedBy>
  <dcterms:modified xsi:type="dcterms:W3CDTF">2007-10-11T11:38:59Z</dcterms:modified>
  <cp:revision>132</cp:revision>
  <dc:subject/>
  <dc:title>Slide 1</dc:title>
</cp:coreProperties>
</file>