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471-2C00-49DC-9591-73BF45C9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EC9-B621-4AFE-9E2F-0C798A9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E72-2637-45A8-8B32-C34B6CA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D7F-7447-4989-92C5-39E1A855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27E-3E45-4DBE-B7F4-8E0636D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133-244E-4C29-B32A-65D5421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100-B82F-4B88-B96C-92FC2234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35D-631B-4630-98A8-873F88FB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C68-1000-4F8E-A598-C81CB83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386-41B0-43FA-925D-13B2B79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9CF-83C5-48B1-A9E7-2D5AD66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C4-F34C-48A2-8A9C-EDB8681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FEstrapline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495440" cy="1238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D06-F5D0-4D48-B50E-80CFC5F7D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2428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76704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467480" y="57240"/>
          <a:ext cx="160992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7240"/>
                    <a:ext cx="16099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hreach.ie/" TargetMode="External"/><Relationship Id="rId2" Type="http://schemas.openxmlformats.org/officeDocument/2006/relationships/hyperlink" Target="http://www.sttc.ie/" TargetMode="External"/><Relationship Id="rId3" Type="http://schemas.openxmlformats.org/officeDocument/2006/relationships/hyperlink" Target="http://www.youth.ie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hivaunobrien@eircom.net" TargetMode="External"/><Relationship Id="rId2" Type="http://schemas.openxmlformats.org/officeDocument/2006/relationships/hyperlink" Target="http://www.youthreach.ie/" TargetMode="External"/><Relationship Id="rId3" Type="http://schemas.openxmlformats.org/officeDocument/2006/relationships/hyperlink" Target="http://www.sttc.i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Framework Initiative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Youthreach and Senior Traveller Training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bedding a Culture of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ctober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rpose of the 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purpo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examine centre practice, identify strengths and weaknesses, identify &amp; implement actions to improve the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ountability: annual reports to VEC, evidence for DES insp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But is that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Evaluation can have process 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s refers to and is indicated by individual changes in thinking and behaviour and programme or organisational changes in procedures and culture, that occur among those involved in evaluation as a result of the learning that occurs during the evaluation proc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ael Quinn Patten (1993) Utilization Focuse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FE :Concern with the usefulness of the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ocess Out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hancing shared understanding ( NOT teachers teach and managers manage), staff concerned with overall service not just the subjects they t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mbuilding - regularity N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city Building – more capable more conf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ing staff engagement, sense of ownership and self determination ( participatory and empowerment 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d intentionality – end up with plan, a sense of direction, commitment to making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ing in process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ring staff togeth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lear communication – facilitator clarifies and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veryone talks/ listens – equally valu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e the service through each others’ eyes – opportunities for personal ref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afety – speaking openly, evaluation of systems not people, controlled &amp; kept focu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earning-  new knowledge and skills: from gathering and discussing evidence, learning to solve problems, learning to evaluate (double loop learning), becomes integral to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king decisions -  deciding on actions that are actually carried 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 can be Quantitative or 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sts of evidence pg 23-26 ICE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 by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5280" y="990360"/>
            <a:ext cx="4824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e QFI Guidelines for Internal Centre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apter 3 ICE guidelines- reflect current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hreach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tc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earing Young Voices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youth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ticipation Spice it Up Dynamix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lain the reasons for evaluation to lea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pproach depends on learners age, 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cide the focus of the learner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n session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Pj03997580000[1]"/>
          <p:cNvPicPr/>
          <p:nvPr/>
        </p:nvPicPr>
        <p:blipFill>
          <a:blip r:embed="rId4"/>
          <a:stretch/>
        </p:blipFill>
        <p:spPr>
          <a:xfrm>
            <a:off x="324000" y="1413000"/>
            <a:ext cx="3470040" cy="3527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08000" y="5013360"/>
            <a:ext cx="3097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VALUATION SHOULD BE A POSITIVE and USEFUL EXPERIENCE FOR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 by learners c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ill learners receiv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to show learners that their opinion was considered and that appropriate action was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(reviews) of programmes by learners  should happen every time a programme is delivered- feed into FETAC QA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E HAND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Pj03998950000[1]"/>
          <p:cNvPicPr/>
          <p:nvPr/>
        </p:nvPicPr>
        <p:blipFill>
          <a:blip r:embed="rId1"/>
          <a:stretch/>
        </p:blipFill>
        <p:spPr>
          <a:xfrm>
            <a:off x="4708440" y="2006640"/>
            <a:ext cx="3684600" cy="39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llow-up to IC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ilitator will type up outcomes of 2 day session and return it to centre Co-ordinator/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ff and VEC mgt get copy of evalu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re that action plan is implem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ep action plan on agenda at staff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-ordinator/ Director responsible for ensuring that actions are implemented/ time 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ICE following year – check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6240" y="533520"/>
            <a:ext cx="526896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Shivaun O’B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Framework Co-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/O Co Louth 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ng 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ogh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. L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41-98399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hivaunobrien@eircom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QFI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youthreach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ttc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a QFI for Youthreach and STT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 from the centres (Youthreach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ucation Act (1998) -  Centres were designated as Centres for Education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/ STTCs both work with children, ie. under 18, also sixteen year olds/ those not completed 3 yrs post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responsible for the quality of education provided in Centres for Education as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ools have SD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/ STTC have Q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DPI and QFI similar in process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26920" y="1341360"/>
          <a:ext cx="7490160" cy="4924440"/>
        </p:xfrm>
        <a:graphic>
          <a:graphicData uri="http://schemas.openxmlformats.org/drawingml/2006/table">
            <a:tbl>
              <a:tblPr/>
              <a:tblGrid>
                <a:gridCol w="3624480"/>
                <a:gridCol w="38656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FR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ratory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 ‘00 – Feb ‘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tion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’01- April ‘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’02 – July ‘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lo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 ’03 – July ‘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l ou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 ’05 -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38080" y="380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the Quality Framework Initiative-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36600"/>
            <a:ext cx="9144000" cy="657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0"/>
            <a:ext cx="7486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Quality Standards – 27 Quality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549360"/>
          <a:ext cx="8664480" cy="5757840"/>
        </p:xfrm>
        <a:graphic>
          <a:graphicData uri="http://schemas.openxmlformats.org/drawingml/2006/table">
            <a:tbl>
              <a:tblPr/>
              <a:tblGrid>
                <a:gridCol w="2082600"/>
                <a:gridCol w="2249640"/>
                <a:gridCol w="2166840"/>
                <a:gridCol w="2165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sational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nel an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t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Staff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Social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Prog. Development and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Staff Recruitment and In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Code of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Recruitment of Learners and Ad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Staff Dev. &amp; Tr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E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Initial Ass. Ind. &amp;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mmuic. &amp; Links with the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Staff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Intercultur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 Learning Ass. &amp; 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Transparency, Acc. and 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 Support Structures for Lear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Admin. &amp; Financial Mg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Literacy &amp; Nume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Record 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Soc. Personal &amp; Health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Health &amp;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Work Ex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Premi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Transfer &amp; Pro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w ICE happens (practicalit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E session takes place over two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clo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preparation required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FI Facilitator booked in advance/ TE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ucture of session prescribed/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 that each activity is useful/ time well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ilitator types up outcomes of the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Co-ordinator/ Director prepares annual report for VEC following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implementation of actions from year to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can be evalu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of the 27 quality areas – select 9 areas to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c Programmes/ activities of the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ation of the Centr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ation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cc"/>
                </a:solidFill>
                <a:latin typeface="Times New Roman"/>
              </a:rPr>
              <a:t>Who is invol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6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33"/>
                </a:solidFill>
                <a:latin typeface="Times New Roman"/>
              </a:rPr>
              <a:t>Core people</a:t>
            </a:r>
            <a:r>
              <a:rPr b="0" lang="en-GB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9900"/>
                </a:solidFill>
                <a:latin typeface="Times New Roman"/>
              </a:rPr>
              <a:t>(attend 2 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entre Co-Ordinator/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entre Staff incl. 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ff33"/>
                </a:solidFill>
                <a:latin typeface="Times New Roman"/>
              </a:rPr>
              <a:t>Key - but involved to varying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ers </a:t>
            </a:r>
            <a:r>
              <a:rPr b="1" lang="en-GB" sz="1800" spc="-1" strike="noStrike">
                <a:solidFill>
                  <a:srgbClr val="ff9900"/>
                </a:solidFill>
                <a:latin typeface="Times New Roman"/>
              </a:rPr>
              <a:t>(evaluation workshops &amp; questionna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Co-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ult Education Officer (A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ducation Officer (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ief Executive Officer (C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ard of Management R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ff33"/>
                </a:solidFill>
                <a:latin typeface="Times New Roman"/>
              </a:rPr>
              <a:t>Involve where relevant</a:t>
            </a:r>
            <a:r>
              <a:rPr b="0" lang="en-GB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Times New Roman"/>
              </a:rPr>
              <a:t>(questionnaires/interview/ focus gro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unity Reps. e.g if evaluating links with 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ents/ Employers   e.g. if contact with parents is being evalua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48360" y="335772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May attend part of 2 day session or complete questionnaire/ interview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643280" y="3429000"/>
            <a:ext cx="216000" cy="1512720"/>
          </a:xfrm>
          <a:custGeom>
            <a:avLst/>
            <a:gdLst>
              <a:gd name="textAreaLeft" fmla="*/ 0 w 216000"/>
              <a:gd name="textAreaRight" fmla="*/ 7812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C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516720" y="5661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12000" y="6021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l Centr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Centr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0:00:58Z</dcterms:created>
  <dc:creator>Shivaun</dc:creator>
  <dc:description/>
  <dc:language>en-US</dc:language>
  <cp:lastModifiedBy>FETAC_SUPPORT_SERVICE</cp:lastModifiedBy>
  <dcterms:modified xsi:type="dcterms:W3CDTF">2007-10-11T11:36:11Z</dcterms:modified>
  <cp:revision>16</cp:revision>
  <dc:subject/>
  <dc:title>Quality Framework Initiative</dc:title>
</cp:coreProperties>
</file>