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5B0-9609-414E-B2A1-6424EA7F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10F-B395-4546-8ED9-C6F95389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82D-8A69-49A4-8E0E-9BA0DE38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6CB-DE72-4106-A308-0AE96DF6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B43-9BE7-4D2B-AE7E-43461B52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A40-78AD-49D7-9C5C-7E13D00D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91B-DB47-428B-A22A-6AE1B123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AA0-7218-4048-94BC-929AEB8E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8FB-C334-47F7-88C4-510D3FE6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9AE-642F-4BCD-B26F-24D328BA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85C-6483-42C7-952F-D0BE1F74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450-0BE3-452D-B934-57AA9293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FEstrapline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495440" cy="1238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6986-34A8-478C-8CE0-1C8FB55702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2428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76704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467480" y="57240"/>
          <a:ext cx="1609920" cy="10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7240"/>
                    <a:ext cx="160992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hreach.ie/" TargetMode="External"/><Relationship Id="rId2" Type="http://schemas.openxmlformats.org/officeDocument/2006/relationships/hyperlink" Target="http://www.sttc.ie/" TargetMode="External"/><Relationship Id="rId3" Type="http://schemas.openxmlformats.org/officeDocument/2006/relationships/hyperlink" Target="http://www.youth.ie/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shivaunobrien@eircom.net" TargetMode="External"/><Relationship Id="rId2" Type="http://schemas.openxmlformats.org/officeDocument/2006/relationships/hyperlink" Target="http://www.youthreach.ie/" TargetMode="External"/><Relationship Id="rId3" Type="http://schemas.openxmlformats.org/officeDocument/2006/relationships/hyperlink" Target="http://www.sttc.i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ality Framework Initiative</a:t>
            </a:r>
            <a:br>
              <a:rPr sz="44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Youthreach and Senior Traveller Training Cen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mbedding a Culture of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ctober 4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rpose of the 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mary purpos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examine centre practice, identify strengths and weaknesses, identify &amp; implement actions to improve the ser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countability: annual reports to VEC, evidence for DES insp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But is that 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Evaluation can have process outc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cess refers to and is indicated by individual changes in thinking and behaviour and programme or organisational changes in procedures and culture, that occur among those involved in evaluation as a result of the learning that occurs during the evaluation proces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chael Quinn Patten (1993) Utilization Focuse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FE :Concern with the usefulness of the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rocess Out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hancing shared understanding ( NOT teachers teach and managers manage), staff concerned with overall service not just the subjects they t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ambuilding - regularity N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acity Building – more capable more conf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reasing staff engagement, sense of ownership and self determination ( participatory and empowerment evalu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reased intentionality – end up with plan, a sense of direction, commitment to making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ilding in process outc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0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ring staff togeth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lear communication – facilitator clarifies and challen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veryone talks/ listens – equally valu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ee the service through each others’ eyes – opportunities for personal refl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afety – speaking openly, evaluation of systems not people, controlled &amp; kept focus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earning-  new knowledge and skills: from gathering and discussing evidence, learning to solve problems, learning to evaluate (double loop learning), becomes integral to program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aking decisions -  deciding on actions that are actually carried o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vi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idence can be Quantitative or Quali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sts of evidence pg 23-26 ICE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aluation by lear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95280" y="990360"/>
            <a:ext cx="48243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ee QFI Guidelines for Internal Centre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hapter 3 ICE guidelines- reflect current good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youthreach.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sttc.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earing Young Voices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youth.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articipation Spice it Up Dynamix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plain the reasons for evaluation to lea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pproach depends on learners age, 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cide the focus of the learner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lan session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MPj03997580000[1]"/>
          <p:cNvPicPr/>
          <p:nvPr/>
        </p:nvPicPr>
        <p:blipFill>
          <a:blip r:embed="rId4"/>
          <a:stretch/>
        </p:blipFill>
        <p:spPr>
          <a:xfrm>
            <a:off x="324000" y="1413000"/>
            <a:ext cx="3470040" cy="3527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108000" y="5013360"/>
            <a:ext cx="3097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VALUATION SHOULD BE A POSITIVE and USEFUL EXPERIENCE FOR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aluation by learners c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will learners receive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rtant to show learners that their opinion was considered and that appropriate action was t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(reviews) of programmes by learners  should happen every time a programme is delivered- feed into FETAC QA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E HAND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MPj03998950000[1]"/>
          <p:cNvPicPr/>
          <p:nvPr/>
        </p:nvPicPr>
        <p:blipFill>
          <a:blip r:embed="rId1"/>
          <a:stretch/>
        </p:blipFill>
        <p:spPr>
          <a:xfrm>
            <a:off x="4708440" y="2006640"/>
            <a:ext cx="3684600" cy="39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llow-up to ICE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cilitator will type up outcomes of 2 day session and return it to centre Co-ordinator/Dir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ff and VEC mgt get copy of evalua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ure that action plan is implemen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ep action plan on agenda at staff 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-ordinator/ Director responsible for ensuring that actions are implemented/ time allo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ICE following year – check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46240" y="533520"/>
            <a:ext cx="526896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ac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Shivaun O’B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Framework Co-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/O Co Louth V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ing 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rogh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. L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041-98399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hivaunobrien@eircom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QFI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youthreach.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sttc.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a QFI for Youthreach and STTC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and from the centres (Youthreach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ucation Act (1998) -  Centres were designated as Centres for Education 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R/ STTCs both work with children, ie. under 18, also sixteen year olds/ those not completed 3 yrs post primary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 responsible for the quality of education provided in Centres for Education as for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ools have SD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R/ STTC have Q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DPI and QFI similar in process and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826920" y="1341360"/>
          <a:ext cx="7490160" cy="4924440"/>
        </p:xfrm>
        <a:graphic>
          <a:graphicData uri="http://schemas.openxmlformats.org/drawingml/2006/table">
            <a:tbl>
              <a:tblPr/>
              <a:tblGrid>
                <a:gridCol w="3624480"/>
                <a:gridCol w="386568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FR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oratory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 ‘00 – Feb ‘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tion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’01- April ‘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elopment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’02 – July ‘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lot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 ’03 – July ‘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l out 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 ’05 -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838080" y="3808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the Quality Framework Initiative- Time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336600"/>
            <a:ext cx="9144000" cy="657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Quality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1640" y="0"/>
            <a:ext cx="7486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ff"/>
                </a:solidFill>
                <a:latin typeface="Arial"/>
              </a:rPr>
              <a:t>Quality Standards – 27 Quality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549360"/>
          <a:ext cx="8664480" cy="5757840"/>
        </p:xfrm>
        <a:graphic>
          <a:graphicData uri="http://schemas.openxmlformats.org/drawingml/2006/table">
            <a:tbl>
              <a:tblPr/>
              <a:tblGrid>
                <a:gridCol w="2082600"/>
                <a:gridCol w="2249640"/>
                <a:gridCol w="2166840"/>
                <a:gridCol w="2165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sational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sonnel and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rning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Eth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Staff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Social 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Prog. Development and Deli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Pl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Staff Recruitment and In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 Code of Behavi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 Recruitment of Learners and Ad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Staff Dev. &amp; Tra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 Equ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Initial Ass. Ind. &amp;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mmuic. &amp; Links with the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Staff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Intercultural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 Learning Ass. &amp; Cert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Transparency, Acc. and 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 Support Structures for Learn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Admin. &amp; Financial Mg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 Literacy &amp; Numera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Record Keep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 Soc. Personal &amp; Health 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Health &amp; Saf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. Work Ex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Premi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 Transfer &amp; Pro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ow ICE happens (practicaliti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CE session takes place over two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ntre clos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preparation required in adv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FI Facilitator booked in advance/ TES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ucture of session prescribed/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ortant that each activity is useful/ time well sp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cilitator types up outcomes of the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ntre Co-ordinator/ Director prepares annual report for VEC following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eck implementation of actions from year to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can be evalua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y of the 27 quality areas – select 9 areas to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cific Programmes/ activities of the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lementation of the Centr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bination of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cc"/>
                </a:solidFill>
                <a:latin typeface="Times New Roman"/>
              </a:rPr>
              <a:t>Who is involv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8229600" cy="576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ff33"/>
                </a:solidFill>
                <a:latin typeface="Times New Roman"/>
              </a:rPr>
              <a:t>Core people</a:t>
            </a:r>
            <a:r>
              <a:rPr b="0" lang="en-GB" sz="1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9900"/>
                </a:solidFill>
                <a:latin typeface="Times New Roman"/>
              </a:rPr>
              <a:t>(attend 2 day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entre Co-Ordinator/ Dir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entre Staff incl. ad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ff33"/>
                </a:solidFill>
                <a:latin typeface="Times New Roman"/>
              </a:rPr>
              <a:t>Key - but involved to varying deg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arners </a:t>
            </a:r>
            <a:r>
              <a:rPr b="1" lang="en-GB" sz="1800" spc="-1" strike="noStrike">
                <a:solidFill>
                  <a:srgbClr val="ff9900"/>
                </a:solidFill>
                <a:latin typeface="Times New Roman"/>
              </a:rPr>
              <a:t>(evaluation workshops &amp; questionnai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gional Co-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dult Education Officer (A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ducation Officer (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hief Executive Officer (C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oard of Management R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ff33"/>
                </a:solidFill>
                <a:latin typeface="Times New Roman"/>
              </a:rPr>
              <a:t>Involve where relevant</a:t>
            </a:r>
            <a:r>
              <a:rPr b="0" lang="en-GB" sz="1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9900"/>
                </a:solidFill>
                <a:latin typeface="Times New Roman"/>
              </a:rPr>
              <a:t>(questionnaires/interview/ focus grou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munity Reps. e.g if evaluating links with commun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ents/ Employers   e.g. if contact with parents is being evaluat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148360" y="3357720"/>
            <a:ext cx="19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Arial"/>
              </a:rPr>
              <a:t>May attend part of 2 day session or complete questionnaire/ interview in 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4643280" y="3429000"/>
            <a:ext cx="216000" cy="1512720"/>
          </a:xfrm>
          <a:custGeom>
            <a:avLst/>
            <a:gdLst>
              <a:gd name="textAreaLeft" fmla="*/ 0 w 216000"/>
              <a:gd name="textAreaRight" fmla="*/ 7812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ICE 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516720" y="5661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012000" y="6021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rnal Centre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3068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l Centr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. Shivaun O' Brien, QFI National Co-ordina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0:00:58Z</dcterms:created>
  <dc:creator>Shivaun</dc:creator>
  <dc:description/>
  <dc:language>en-US</dc:language>
  <cp:lastModifiedBy>FETAC_SUPPORT_SERVICE</cp:lastModifiedBy>
  <dcterms:modified xsi:type="dcterms:W3CDTF">2007-10-11T11:36:11Z</dcterms:modified>
  <cp:revision>16</cp:revision>
  <dc:subject/>
  <dc:title>Quality Framework Initiative</dc:title>
</cp:coreProperties>
</file>