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C174-8285-43FE-9EB3-DDCF7883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542A-C647-4F30-A8EF-46425252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FB69-24BF-4C24-B106-0CD44A80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61FF-86D7-423B-B84F-09089A10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69D80-71BF-43A4-AC1C-DC049073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27C27-4DA8-4513-BCD8-6FF1E53A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BA583-D443-4AD7-9239-7D0A60DC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D48DF-8598-4650-A9EB-134959C9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D347C-564A-41DD-AA74-551B3D26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7C221-F8FD-400B-B4AA-57CD9FEF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45608-C67B-4373-A8E9-E8F64A3A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4F3-88C9-4939-9CCF-1FCCBC4A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B1910-A5DE-4C53-993F-56698691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63FF6-B449-4D86-9F2B-8A4118A6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434B1-9373-4532-A377-2B0802F9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E8FAE-7081-4412-9567-B2AF0D48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4EC36-D407-4438-AEEA-CD953A70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8EE-6963-448D-8126-B24C5201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9FA0-C090-41BE-B0A7-47A152CC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6AE-90E7-4954-8EEA-3E619A44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F7B7-A566-4CEF-B2BF-CF1D8CB0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D202-67A7-4779-B43A-C798449C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52B-01B8-482E-8C34-FF3FC250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427-2D2C-42D8-AD44-FF2D2ED7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FDB4-DBBE-493F-9492-9D7C51D22E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87F3-E240-43BA-8DF7-53203D12B9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Building Reflexive Learning Organis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V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October,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of. Tom Coll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Professor Tom Collins, Professor of Education, Education Department, NUI Maynoot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Assumption of Tru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entre or Periph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Hierarchy as opposed to Distributed Responsi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Assumptions re Honesty, Integrity, Openness and Shared View of Qu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Personal and Civic Mor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Tom Collins, Professor of Education, Education Department, NUI Maynoot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79280" y="1197000"/>
          <a:ext cx="8785440" cy="468936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  <a:gridCol w="2197080"/>
                <a:gridCol w="21956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SPONSE TO EXCLU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IENTELI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TNERSHI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TICIPAT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ntrustwort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erv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p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ired Outco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vide Servi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-ope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lidar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 re.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te Decre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te Co-op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te Suppor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 re. Solu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edy Individu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edy Group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tive Group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ew of Cli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pend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pend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n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Tom Collins, Professor of Education, Education Department, NUI Maynoot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914400"/>
            <a:ext cx="3200400" cy="1752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Pe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114800"/>
            <a:ext cx="3200400" cy="1752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Stu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4114800"/>
            <a:ext cx="3200400" cy="1752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990720"/>
            <a:ext cx="3200400" cy="1752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Taxp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2895480"/>
            <a:ext cx="3886200" cy="1067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Tom Collins, Professor of Education, Education Department, NUI Maynoot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914400"/>
            <a:ext cx="3200400" cy="1752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Transpar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114800"/>
            <a:ext cx="3200400" cy="1752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Staff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4114800"/>
            <a:ext cx="3200400" cy="1752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Public Rep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990720"/>
            <a:ext cx="3200400" cy="1752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Feedback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895480"/>
            <a:ext cx="3886200" cy="1067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Auton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Tom Collins, Professor of Education, Education Department, NUI Maynoot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Levels of reflective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8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Level One: 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Everyday reflection- 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00c600"/>
                </a:solidFill>
                <a:latin typeface="Tahoma"/>
              </a:rPr>
              <a:t>flee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Level Two: 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eliberate reflection - 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00c600"/>
                </a:solidFill>
                <a:latin typeface="Tahoma"/>
              </a:rPr>
              <a:t>committ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Level Three: Deliberate and 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systematic reflection - 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00c600"/>
                </a:solidFill>
                <a:latin typeface="Tahoma"/>
              </a:rPr>
              <a:t>programmati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ttp://lsn.curtin.edu.au/tlf/tlf1997/hall1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Tom Collins, Professor of Education, Education Department, NUI Maynoot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1:19:13Z</dcterms:created>
  <dc:creator>Rose Dolan</dc:creator>
  <dc:description/>
  <dc:language>en-US</dc:language>
  <cp:lastModifiedBy>FETAC_SUPPORT_SERVICE</cp:lastModifiedBy>
  <dcterms:modified xsi:type="dcterms:W3CDTF">2007-10-11T10:45:34Z</dcterms:modified>
  <cp:revision>9</cp:revision>
  <dc:subject/>
  <dc:title>PowerPoint Presentation</dc:title>
</cp:coreProperties>
</file>