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ADE-9CB4-4B44-8B8B-484069DC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9A75-9B34-4921-B014-CBDE5AC5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8D71-6B88-4548-847B-1514CB02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3F20-C590-48DE-BB31-19C1EF3E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91F20-46E0-4F4C-B4FC-3825E5B7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5ACAE-7A8C-4A37-BDFB-F25CBAC5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2CC0B-F8F4-4DAC-A3D1-7FCE2931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D7795-195E-492E-985E-D39A9963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D8252-E619-4E71-AAE8-35635974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15467-D43A-4A2F-84D8-5501C854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B6481-90D8-4911-AC4D-0EB7FDC2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A322-928B-4C9F-86DD-B8AB8573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7E43E-875F-4C0A-8871-D1F6FD20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E037A-435E-4CFE-9986-353D2590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52476-1451-4F5C-BB9A-BACFA62F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EF684-2FC1-4FFD-934B-826AE5BC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18067-8347-4180-8802-81FDA4A4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191D-D915-4B84-BF4C-6468DE1A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619-DB52-4336-88B1-666A1FB4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2A80-2BC7-406D-9731-1BE57782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EBE-376C-4451-9D56-7AEA2E72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65D-CED3-4A0A-99B9-25D080F4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B66C-6E2F-4AF3-825D-12C41624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A3D-1CD7-4BBD-9A56-83D7072C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3497-6590-4FA5-8DC2-9AFEAD8DF3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F113-C638-482D-9CB6-79F6E054B9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Building Reflexive Learning Organis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V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GB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October,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of. Tom Coll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Professor Tom Collins, Professor of Education, Education Department, NUI Maynoot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Assumption of Tru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entre or Periph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Hierarchy as opposed to Distributed Responsi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Assumptions re Honesty, Integrity, Openness and Shared View of Qu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Personal and Civic Mor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Tom Collins, Professor of Education, Education Department, NUI Maynoot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79280" y="1197000"/>
          <a:ext cx="8785440" cy="468936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  <a:gridCol w="2197080"/>
                <a:gridCol w="21956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SPONSE TO EXCLU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IENTELI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TNERSHI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TICIPAT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ntrustworth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erv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p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ired Outco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vide Servi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-ope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lidar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 re.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te Decre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te Co-op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te Suppor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 re. Solu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edy Individu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edy Group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tive Group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ew of Cli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pend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pend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n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Tom Collins, Professor of Education, Education Department, NUI Maynoot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914400"/>
            <a:ext cx="3200400" cy="1752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Pe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114800"/>
            <a:ext cx="3200400" cy="1752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Stu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4114800"/>
            <a:ext cx="3200400" cy="1752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990720"/>
            <a:ext cx="3200400" cy="1752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Taxp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2895480"/>
            <a:ext cx="3886200" cy="1067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Account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Tom Collins, Professor of Education, Education Department, NUI Maynoot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914400"/>
            <a:ext cx="3200400" cy="1752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Transpar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114800"/>
            <a:ext cx="3200400" cy="1752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Staff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4114800"/>
            <a:ext cx="3200400" cy="1752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Public Repor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990720"/>
            <a:ext cx="3200400" cy="1752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Feedback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895480"/>
            <a:ext cx="3886200" cy="1067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Auton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Tom Collins, Professor of Education, Education Department, NUI Maynoot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Levels of reflective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8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Level One: 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Everyday reflection- 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00c600"/>
                </a:solidFill>
                <a:latin typeface="Tahoma"/>
              </a:rPr>
              <a:t>flee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Level Two: 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eliberate reflection - 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00c600"/>
                </a:solidFill>
                <a:latin typeface="Tahoma"/>
              </a:rPr>
              <a:t>committ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Level Three: Deliberate and 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systematic reflection - 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3600" spc="-1" strike="noStrike">
                <a:solidFill>
                  <a:srgbClr val="00c600"/>
                </a:solidFill>
                <a:latin typeface="Tahoma"/>
              </a:rPr>
              <a:t>programmati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ttp://lsn.curtin.edu.au/tlf/tlf1997/hall1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Tom Collins, Professor of Education, Education Department, NUI Maynooth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1:19:13Z</dcterms:created>
  <dc:creator>Rose Dolan</dc:creator>
  <dc:description/>
  <dc:language>en-US</dc:language>
  <cp:lastModifiedBy>FETAC_SUPPORT_SERVICE</cp:lastModifiedBy>
  <dcterms:modified xsi:type="dcterms:W3CDTF">2007-10-11T10:45:34Z</dcterms:modified>
  <cp:revision>9</cp:revision>
  <dc:subject/>
  <dc:title>PowerPoint Presentation</dc:title>
</cp:coreProperties>
</file>